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505092"/>
        <c:axId val="59958818"/>
      </c:barChart>
      <c:catAx>
        <c:axId val="805050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58818"/>
        <c:crosses val="autoZero"/>
        <c:auto val="1"/>
        <c:lblAlgn val="ctr"/>
        <c:lblOffset val="100"/>
        <c:noMultiLvlLbl val="0"/>
      </c:catAx>
      <c:valAx>
        <c:axId val="599588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5050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2AB2-14DC-407A-9DD7-E553486FB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3904-D22F-4CE6-AF81-E7E59A68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FC46-4653-4858-AD72-D0D59107E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8890-1298-4A20-938C-8A47D45A3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B56E-D6AC-47F1-A77A-D477717E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726E-8218-40A7-8613-616ED6B2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0160-AF58-48A2-A331-52B157FB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EFAD-0EC0-40AA-A9A9-97065BAC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8B93-6FAE-460E-8300-B4CB5285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8CF2-6107-4F3A-900D-36B44E70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A684-F8E5-45B9-BF79-8514D291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D1BD-173C-4206-B563-A98B4F2F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59DBA3-2900-4C7C-9700-918C3C6A7C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