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82699"/>
        <c:axId val="38310028"/>
      </c:barChart>
      <c:catAx>
        <c:axId val="16782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10028"/>
        <c:crosses val="autoZero"/>
        <c:auto val="1"/>
        <c:lblAlgn val="ctr"/>
        <c:lblOffset val="100"/>
        <c:noMultiLvlLbl val="0"/>
      </c:catAx>
      <c:valAx>
        <c:axId val="38310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82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62B-10A8-4856-BE4C-2AE80DF1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C57-3A9A-4647-9D95-48B7BF7B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E84-1795-43C7-ACB3-557AB447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A08-9630-412E-9359-DBE74AAE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AF9-2777-47A1-B76C-82365B71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F7E-3A70-4A78-B994-7BFCF537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6C1-4E8B-4BFC-977B-62D5E97E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04A-AE43-4C1A-9936-4B2692BC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986-CCCE-4094-AC07-C64A34D9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F39-9A5C-4251-A161-1A7A6F45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A6E-1AC5-47AA-AC03-E8FFF4D0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F12-00C7-4553-9F0B-12B51051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67F76-40E2-483B-9782-6D679699B1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