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51237"/>
        <c:axId val="99908063"/>
      </c:barChart>
      <c:catAx>
        <c:axId val="99751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08063"/>
        <c:crosses val="autoZero"/>
        <c:auto val="1"/>
        <c:lblAlgn val="ctr"/>
        <c:lblOffset val="100"/>
        <c:noMultiLvlLbl val="0"/>
      </c:catAx>
      <c:valAx>
        <c:axId val="99908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51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CDB-A484-4D76-8B2F-9CA2E409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CFE-243D-4CE3-8D12-E996FBB7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336-677E-4324-9CE0-8FBC46E8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1D2-43AC-40D6-95D7-8CE78279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A11-D40F-42CF-8379-97F3849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43C-707E-4C2E-A30A-C27826F1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B83-A838-4E1F-8A46-FD11C5E1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94D-786D-4BE2-9766-B3F6ABB2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8AD-78C4-485D-A2BF-E64A47BC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5BD-F835-40CE-B3DE-B82F1A62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DD4-D9FE-4D2F-B983-050D5DA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3AD-6A42-439E-A6E5-3D3D36F7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0ABAB-3E1A-4386-9AE6-1C9BC9365E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